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3C18-9DB1-4A8B-AC75-3542AE1F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F56F-377F-47F2-A2C2-28EA677C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6FA-9B20-4642-9C27-584E031B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31BD-3DB7-4D31-93A6-493575A8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0B3-0C1C-4A4F-9CCB-9270E35F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82A-0039-4910-90B0-D9A2DAC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485-112C-42DE-BD3E-B3DB7B0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D5D0-48BB-426A-9BB4-2F0E43B3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7FC-CCF0-4E02-9EB9-237DB70A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959-D6AC-4B3C-9D74-C2E9ADB8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94C-9AEC-4E9E-9B94-C40888D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24E-3F57-4758-81CA-479A8B1F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7BA1-B2B4-4CC4-877D-3EEA2A88B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4:28:48Z</dcterms:created>
  <dc:creator>Mount Lebanon School District</dc:creator>
  <dc:description/>
  <dc:language>en-US</dc:language>
  <cp:lastModifiedBy>Mount Lebanon School District</cp:lastModifiedBy>
  <dcterms:modified xsi:type="dcterms:W3CDTF">2010-03-03T14:29:57Z</dcterms:modified>
  <cp:revision>1</cp:revision>
  <dc:subject/>
  <dc:title>Slide 1</dc:title>
</cp:coreProperties>
</file>